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301-7119-4E8D-9773-E51627CC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183-B51F-4C37-B6E9-7E2258F5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FD8-4379-45AF-BBC6-FEEA5E1E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BD5-3939-4A30-9407-666AE606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4D8B-A4E1-46AC-B653-D3E8BDA4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143B-984B-42E2-B4F4-F86F005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F8E1-46EC-4E0A-888D-7540F69D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B497-7E84-4AE3-AB55-65583B29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0B87-931C-41C6-8434-D02011DB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BEC1-1957-49B3-9384-CEC6168A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BF2C-CA1E-4A63-9102-BC961B4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99D-DE70-4FA3-BD45-7893959B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3E13-E14C-4DF4-8006-2E8AC10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9DA7-C363-495D-AFF6-6B96D876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1FF0-2F85-45AF-8F9B-1E034962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B57B-2444-48BB-A00B-8DD6AE34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F8E3-B9F3-4CC2-BC7E-EF65E265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99A-5BD5-43AF-AEDE-FD656CEA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F31-89BD-4322-A46D-37C7C42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14E-F87D-4C67-9D28-648EB0EC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D40-AE05-4631-B862-42BED85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3EA-CC35-4B8E-9381-117DA76E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381-1651-4040-ABA2-0F7043F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A37-29D5-4D87-9B0A-616B9D4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9A28-A0E3-4D3F-8032-8CE2474A752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EF9-712E-41AF-889F-876D39A1FEA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83772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 Enhanced Learning C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ra Kier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linda Grim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kit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rno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isual Thesaurus ($), Lexipedia (free!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ctionar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imidating…but re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udents as learning partn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sign/layout of physical spa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-creators of rules/procedur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ainstorming topics at cent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 to use technology for lear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istakes’ are opportunities for reflection, learning, and revision for everyo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ake-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echnology should never replace teaching. It should be used to enhance and extend quality teaching practices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aura Kieran, laura.kieran@drake.ed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linda Grimm, mj-grimm@wiu.ed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Center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just for kindergart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74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arning stations ar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udent-cent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gaging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eacher-gui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llabora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ood for ANY age and gr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57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Where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hysical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raffic patter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Materials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ge-appropria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afe/practica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Accountability idea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ssigning roles at cent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ssign specific task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rovide support for self-checks and evalu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574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ptions for reading text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lectronic, with or without text to voic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ptions for respons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Written…paper/pencil or word process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Voice to tex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udio or video record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Grouping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dividua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rtner/small group collabora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Varied levels of difficulty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mphasis on Big Idea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hallenge problem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Service Announcemen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fferentiation in materials, including the use of e-text provides readers with disabilities with Accessible Instructional Materia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students can’t access or read the text, they can’t make progress on the CCS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57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ne of these tools must be 1: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l should be considered as tools for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onsumption and productio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y stud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Pads, tablets, laptops, computers (-BYOD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adphones/headse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mera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ideo and audio record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MART or Promethean board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 and 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57120" y="1904760"/>
            <a:ext cx="323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exibility with tools for recording and podcasting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76920" y="1752480"/>
            <a:ext cx="4152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arage Ban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oice Threa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ix N Tel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Tunes U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napgui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ducre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mia Tea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Movi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ck Puppe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7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ding Car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rno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dmod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NRespo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Boo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ractive CD-ROM boo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-text or Bookshare.or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raphic organizers such as Tools4Read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Kindle read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23:20:51Z</dcterms:created>
  <dc:creator>gc0375402</dc:creator>
  <dc:description/>
  <dc:language>en-US</dc:language>
  <cp:lastModifiedBy>Laura Kieran</cp:lastModifiedBy>
  <dcterms:modified xsi:type="dcterms:W3CDTF">2014-09-29T21:31:59Z</dcterms:modified>
  <cp:revision>80</cp:revision>
  <dc:subject/>
  <dc:title>Historical perspectives in  Special Education:</dc:title>
</cp:coreProperties>
</file>